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6B6-EA59-4D8A-8795-1AD4A8BA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7BF-F198-417D-8937-582FE54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3D5-1DA1-4E97-865D-479831E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F66-A9FD-4D2D-A56B-366291E6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BECF-5BF9-411A-9754-481F5CBF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2528-4AFE-4D2C-8B29-9CF74144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8340-2AF9-4B38-A94B-1DDBC639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7CDB-7960-40E4-A57D-2A714853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7B3-4D58-4475-9566-26D8C39E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712A-9D09-4781-AE5B-8A46856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CE75-495F-4102-9060-7684594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B55-DBEA-4D46-8522-E9C5309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D1EE-69FC-4FD5-8BB4-31F15FC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ED84-4469-4408-ABA6-B642D4E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655-6AA7-4F50-94D7-C91A282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69EC-348F-4A7D-806F-4195F6A4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A7C4-453A-4DE2-B0AF-1440A0AA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BE0-39E4-43C0-8D73-C02994C8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852-4150-46BF-A1A4-2FFB110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DBD-CB7A-4A11-90DC-82B1354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2EF-330A-42A4-9C9A-ADE036F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C1C-90B7-4C74-B74E-F513A8F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FF8-678F-4461-BB28-C3FE1DE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4E0-C664-475D-9CE6-244EFA14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E506-D18D-463F-9EB5-A4CE1CC2A8E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31B4-4358-46AE-ABF2-D187CE65DD2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80800"/>
            <a:ext cx="856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TPOAR – Brasília – ABR/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4400" y="1412640"/>
            <a:ext cx="804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ff99"/>
                </a:solidFill>
                <a:latin typeface="Tahoma"/>
              </a:rPr>
              <a:t>SISTEMA INTEGRADO DE MEIO AMBIENTE DO ESTADO DE MINAS GE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S I A M – M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360" y="5635800"/>
            <a:ext cx="856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Divisão de Regulação e Controle</a:t>
            </a:r>
            <a:br>
              <a:rPr sz="2400"/>
            </a:b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Instituto Mineiro de Gestão das Ág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3124080"/>
            <a:ext cx="7848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343400"/>
            <a:ext cx="7886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40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22880" t="950" r="22880" b="1792"/>
          <a:stretch/>
        </p:blipFill>
        <p:spPr>
          <a:xfrm>
            <a:off x="1233360" y="192240"/>
            <a:ext cx="5139000" cy="6549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76200" y="349200"/>
            <a:ext cx="1171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50000"/>
                  </a:srgbClr>
                </a:solidFill>
                <a:latin typeface="Arial Black"/>
              </a:rPr>
              <a:t>FC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5294880" y="920880"/>
            <a:ext cx="35942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REQUER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240" y="1701720"/>
            <a:ext cx="41245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EMPREEND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3800" y="3646440"/>
            <a:ext cx="2941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O DE RECURSO HÍDR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4365720"/>
            <a:ext cx="28839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ORAÇÃO FLORES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52720" y="4941720"/>
            <a:ext cx="18723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931160" cy="379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Programa Nacional de Meio Ambiente II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riação de Grupos de Trabalho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Seminários de Integração dos processos autorizativos e fiscalização (IGAM, FEAM e 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3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Resolução SEMAD nº 146 (05/06/2003) Determina a implantação do 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SOLUÇÃO SEMAD - Nº 146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931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entral de Atendimento SEMAD (“balcão único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processo deve ser iniciado na entidade SEMAD responsável pelo licenciamento ambiental, quando houver, que também se responsabilizará pela distribuição dos processos para os demais órgã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para manifestação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90 dias (Informações complementares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ase LP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manifestação prévia IGAM e IEF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orgas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LI e LO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integração: 1º de Dezembro 200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14600">
            <a:off x="1982520" y="390780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67600">
            <a:off x="4816440" y="1483920"/>
            <a:ext cx="1676520" cy="790560"/>
          </a:xfrm>
          <a:prstGeom prst="rightArrow">
            <a:avLst>
              <a:gd name="adj1" fmla="val 50000"/>
              <a:gd name="adj2" fmla="val 530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UTOR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6600">
            <a:off x="6644880" y="422712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805800">
            <a:off x="2759040" y="529416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AP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82800" y="49132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49132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7000" y="2093760"/>
            <a:ext cx="129528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3339200">
            <a:off x="6955560" y="5663520"/>
            <a:ext cx="474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3846600"/>
            <a:ext cx="160020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149000">
            <a:off x="1393920" y="56750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217600">
            <a:off x="4216680" y="1554840"/>
            <a:ext cx="47448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134600">
            <a:off x="2954160" y="445608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195800">
            <a:off x="4113720" y="318672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444400">
            <a:off x="5164200" y="450324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70840" y="1128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4280" y="6157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760" y="6146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10480" y="189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TUAÇÃ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66720" y="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560" y="2362320"/>
            <a:ext cx="4724280" cy="35812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49528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6840" y="49528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0800" y="2133720"/>
            <a:ext cx="1295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3339200">
            <a:off x="6940080" y="5703480"/>
            <a:ext cx="474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9440" y="388620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149000">
            <a:off x="1378080" y="57146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17600">
            <a:off x="4200480" y="1594440"/>
            <a:ext cx="47484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134600">
            <a:off x="2937960" y="449532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195800">
            <a:off x="4097880" y="3226320"/>
            <a:ext cx="680760" cy="485640"/>
          </a:xfrm>
          <a:prstGeom prst="leftRightArrow">
            <a:avLst>
              <a:gd name="adj1" fmla="val 50000"/>
              <a:gd name="adj2" fmla="val 279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444400">
            <a:off x="5148000" y="45432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5920" y="11685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880" y="61977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8400" y="618660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284400">
            <a:off x="2011680" y="2759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596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7381800">
            <a:off x="2316600" y="3246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258600">
            <a:off x="5697720" y="338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7656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3957800">
            <a:off x="6020640" y="2984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2967800">
            <a:off x="3025440" y="352728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195800">
            <a:off x="4016880" y="482184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653000">
            <a:off x="5262480" y="36576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2997360"/>
            <a:ext cx="5791320" cy="2361960"/>
          </a:xfrm>
          <a:prstGeom prst="rightArrowCallout">
            <a:avLst>
              <a:gd name="adj1" fmla="val 25002"/>
              <a:gd name="adj2" fmla="val 25000"/>
              <a:gd name="adj3" fmla="val 40865"/>
              <a:gd name="adj4" fmla="val 66667"/>
            </a:avLst>
          </a:prstGeom>
          <a:gradFill rotWithShape="0">
            <a:gsLst>
              <a:gs pos="0">
                <a:srgbClr val="65a865"/>
              </a:gs>
              <a:gs pos="50000">
                <a:srgbClr val="99ff99"/>
              </a:gs>
              <a:gs pos="100000">
                <a:srgbClr val="65a86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ERTIFICADOS 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UTORIZAÇÕ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2993600">
            <a:off x="5765400" y="5000400"/>
            <a:ext cx="808200" cy="485640"/>
          </a:xfrm>
          <a:prstGeom prst="rightArrow">
            <a:avLst>
              <a:gd name="adj1" fmla="val 50000"/>
              <a:gd name="adj2" fmla="val 416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8251200">
            <a:off x="5812560" y="258912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386200">
            <a:off x="2590920" y="25966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84800">
            <a:off x="2734920" y="5087880"/>
            <a:ext cx="752400" cy="486000"/>
          </a:xfrm>
          <a:prstGeom prst="rightArrow">
            <a:avLst>
              <a:gd name="adj1" fmla="val 50000"/>
              <a:gd name="adj2" fmla="val 3870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7520" y="2971800"/>
            <a:ext cx="2057400" cy="2209680"/>
          </a:xfrm>
          <a:prstGeom prst="flowChartMagneticDisk">
            <a:avLst/>
          </a:prstGeom>
          <a:gradFill rotWithShape="0">
            <a:gsLst>
              <a:gs pos="0">
                <a:srgbClr val="979665"/>
              </a:gs>
              <a:gs pos="50000">
                <a:srgbClr val="c8c686"/>
              </a:gs>
              <a:gs pos="100000">
                <a:srgbClr val="9796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736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6120" y="3745080"/>
            <a:ext cx="914400" cy="380880"/>
          </a:xfrm>
          <a:prstGeom prst="flowChartAlternateProcess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ção urbana atendida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stema de disposição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ixo, com LO do COPAM.</a:t>
            </a:r>
            <a:r>
              <a:rPr b="1" lang="pt-PT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00520" y="3745080"/>
            <a:ext cx="762120" cy="7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/>
            </a:outerShdw>
          </a:effectLst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395960" y="4248000"/>
            <a:ext cx="990360" cy="6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aphicFrame>
        <p:nvGraphicFramePr>
          <p:cNvPr id="276" name=""/>
          <p:cNvGraphicFramePr/>
          <p:nvPr/>
        </p:nvGraphicFramePr>
        <p:xfrm>
          <a:off x="3862440" y="4202280"/>
          <a:ext cx="838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2440" y="4202280"/>
                    <a:ext cx="838080" cy="750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8ae8"/>
                    </a:outerShdw>
                  </a:effectLst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042920" y="1600200"/>
            <a:ext cx="19051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AP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48440" y="1600200"/>
            <a:ext cx="1905120" cy="1295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o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48440" y="5181480"/>
            <a:ext cx="205740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9240" y="5181480"/>
            <a:ext cx="1905120" cy="1295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8c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86280" y="1341360"/>
            <a:ext cx="3073320" cy="962280"/>
          </a:xfrm>
          <a:prstGeom prst="ellipse">
            <a:avLst/>
          </a:prstGeom>
          <a:gradFill rotWithShape="0">
            <a:gsLst>
              <a:gs pos="0">
                <a:srgbClr val="752f5e"/>
              </a:gs>
              <a:gs pos="50000">
                <a:srgbClr val="ff66cc"/>
              </a:gs>
              <a:gs pos="100000">
                <a:srgbClr val="75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STRAM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ORI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3240" y="2590920"/>
            <a:ext cx="2757600" cy="969840"/>
          </a:xfrm>
          <a:prstGeom prst="ellipse">
            <a:avLst/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63800" y="3860640"/>
            <a:ext cx="1717920" cy="503280"/>
          </a:xfrm>
          <a:prstGeom prst="ellipse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3440" y="4653000"/>
            <a:ext cx="1897200" cy="504720"/>
          </a:xfrm>
          <a:prstGeom prst="ellipse">
            <a:avLst/>
          </a:prstGeom>
          <a:gradFill rotWithShape="0">
            <a:gsLst>
              <a:gs pos="0">
                <a:srgbClr val="9ba878"/>
              </a:gs>
              <a:gs pos="50000">
                <a:srgbClr val="ecffb7"/>
              </a:gs>
              <a:gs pos="100000">
                <a:srgbClr val="9ba87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230364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1320" y="357336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21320" y="4365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MÓDULOS SIA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61720" y="5278680"/>
            <a:ext cx="1996200" cy="1361520"/>
            <a:chOff x="6561720" y="5278680"/>
            <a:chExt cx="1996200" cy="1361520"/>
          </a:xfrm>
        </p:grpSpPr>
        <p:sp>
          <p:nvSpPr>
            <p:cNvPr id="292" name=""/>
            <p:cNvSpPr txBox="1"/>
            <p:nvPr/>
          </p:nvSpPr>
          <p:spPr>
            <a:xfrm rot="19488000">
              <a:off x="6659640" y="5516280"/>
              <a:ext cx="1038240" cy="66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DvRC</a:t>
              </a:r>
              <a:endPara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9488000">
              <a:off x="7421400" y="5732280"/>
              <a:ext cx="1038240" cy="66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IGAM</a:t>
              </a:r>
              <a:endPara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491840" y="1533600"/>
            <a:ext cx="99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C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3880" y="1533600"/>
            <a:ext cx="103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85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8400" y="5445000"/>
            <a:ext cx="208728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15772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90720" y="3500280"/>
            <a:ext cx="7619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is de Orientação Virtu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de Digitaliz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 – 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ção de Banco de Da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inamen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anha d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QUISIT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RODU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6600" y="907560"/>
            <a:ext cx="793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CEI e FOBI eletrônicos, em agosto de 200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Integrado Licenciamento, em outubro de 2003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cença + APEF + Outo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 rot="19488000">
            <a:off x="643248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7" name=""/>
          <p:cNvSpPr txBox="1"/>
          <p:nvPr/>
        </p:nvSpPr>
        <p:spPr>
          <a:xfrm rot="19488000">
            <a:off x="71946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1280" y="2057400"/>
            <a:ext cx="168120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10906200">
            <a:off x="991800" y="1599480"/>
            <a:ext cx="1155600" cy="444600"/>
          </a:xfrm>
          <a:custGeom>
            <a:avLst/>
            <a:gdLst>
              <a:gd name="textAreaLeft" fmla="*/ 201960 w 1155600"/>
              <a:gd name="textAreaRight" fmla="*/ 837720 w 1155600"/>
              <a:gd name="textAreaTop" fmla="*/ 59400 h 444600"/>
              <a:gd name="textAreaBottom" fmla="*/ 3852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6360" y="1579680"/>
            <a:ext cx="805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CE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840" y="2924280"/>
            <a:ext cx="1138320" cy="504720"/>
          </a:xfrm>
          <a:custGeom>
            <a:avLst/>
            <a:gdLst>
              <a:gd name="textAreaLeft" fmla="*/ 199080 w 1138320"/>
              <a:gd name="textAreaRight" fmla="*/ 825480 w 11383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57200" y="3124080"/>
            <a:ext cx="108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OB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604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193920" y="1676520"/>
            <a:ext cx="549360" cy="609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024520" y="1143000"/>
            <a:ext cx="114912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024520" y="2133720"/>
            <a:ext cx="1225440" cy="812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948200" y="3276720"/>
            <a:ext cx="1301760" cy="863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049560" y="2895480"/>
            <a:ext cx="77328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81760" y="251460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6d6a00"/>
                </a:solidFill>
                <a:latin typeface="Arial Unicode MS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2116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7160" y="1835280"/>
            <a:ext cx="1981080" cy="52020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INFORMAÇÕ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MPLEMENT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7160" y="3048120"/>
            <a:ext cx="19810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NDICIONA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ocuments"/>
          <p:cNvSpPr/>
          <p:nvPr/>
        </p:nvSpPr>
        <p:spPr>
          <a:xfrm>
            <a:off x="3430440" y="1828800"/>
            <a:ext cx="447840" cy="609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3025800" y="190512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0800000">
            <a:off x="632628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30720" y="1757520"/>
            <a:ext cx="98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G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3120" y="2819520"/>
            <a:ext cx="99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E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32240" y="3981600"/>
            <a:ext cx="982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FE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8680" y="4211640"/>
            <a:ext cx="15238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UB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6040" y="1125360"/>
            <a:ext cx="198144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ROCESSO SEM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25880" y="4419720"/>
            <a:ext cx="1476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0440" y="5181480"/>
            <a:ext cx="4572000" cy="656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ICENCIAMENTO AMBIENTAL INTE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0280" y="6172200"/>
            <a:ext cx="320040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LICENÇAS, APEF E OUTOR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73392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9240" y="571500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FLUX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5:33Z</dcterms:created>
  <dc:creator>ASCOM</dc:creator>
  <dc:description/>
  <dc:language>en-US</dc:language>
  <cp:lastModifiedBy>dico-outorga</cp:lastModifiedBy>
  <dcterms:modified xsi:type="dcterms:W3CDTF">2004-04-28T19:45:29Z</dcterms:modified>
  <cp:revision>133</cp:revision>
  <dc:subject/>
  <dc:title>Apresentação do PowerPoint</dc:title>
</cp:coreProperties>
</file>